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651C-E35F-4160-AFC5-5CDE4F7DF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0BF2-1271-4136-A824-41E0B871D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6FCB-68F2-4D49-876C-6AFCE6E4D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A823-D58E-4370-8E28-E31DF52DD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7DB9-96BF-4860-A880-DF1C1275F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3D8A-945A-4FA6-A634-1B8F3B58C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eight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0646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768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 1/2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02972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03224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 Some of the most comm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061400" y="6323400"/>
            <a:ext cx="16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581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 … at % interest … in 10 years you’ll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.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7544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4016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657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28:34Z</dcterms:modified>
  <cp:revision>54</cp:revision>
  <dc:subject/>
  <dc:title>lesson three</dc:title>
</cp:coreProperties>
</file>