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467480" y="299520"/>
            <a:ext cx="960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2"/>
          <p:cNvSpPr/>
          <p:nvPr/>
        </p:nvSpPr>
        <p:spPr>
          <a:xfrm>
            <a:off x="6931080" y="299880"/>
            <a:ext cx="140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Special Need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eight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rs and loan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" name="Picture 8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alculating the total cost of a loa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o estimate the total cost of a loan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mount of the loan x APR x number of years*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mount of the loan: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,00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R: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umber of years: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,000 x 0.10 x 5 = $5,000 interes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5,000 (interest) + $10,000 (amount of loan) = $15,000 total cos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o estimate the amount of monthly payment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to be paid divided by number of months of the loan*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to be paid: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5,00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umber of months: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60 (5 year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15,000 ÷ 60 = $250 per month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 These formulas produce estimates that are slightly higher than your actual costs and payments.     They do not account for smaller interest payments as you repay the loa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6607800" y="6323400"/>
            <a:ext cx="207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special needs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3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much can you afford to borrow?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much can you afford to borrow? (the 20-10 rul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0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ever borrow more than 20% of your yearly net incom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earn $400 a month after tax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yearly net income is: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400 x 12 months = $4,80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0% of your yearly net income is: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4,800 x 20% = $96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 should have less than $960 of debt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0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</a:t>
            </a: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monthly payments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hould be less than 10% of your </a:t>
            </a: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monthly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et incom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earn $400 a month after tax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0% of your monthly net income is: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400 x 10% = $4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 should pay less than $40 per month for all debts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6620040" y="6323400"/>
            <a:ext cx="205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special needs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3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car insurance coverag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eneral Liability (40–50% of premium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ays for bodily injur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ays for property damage (e.g. to another person’s car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llision (up to 30% of premium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ays for the physical damage to your ca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cludes a deductible (paid by the customer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mprehensive (about 12% of premium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ays for damage caused by vandalism, fire, floods, theft, etc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edic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vers medical payments for injured driver and passenger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Uninsured motori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ays for bodily injury in accidents caused by uninsured driver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607800" y="6323400"/>
            <a:ext cx="207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special needs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3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insurance rates are se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ersonal characteristic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rital statu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ersonal habi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ype and frequency of vehicle u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eographic loc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ural” usually lowers rates, “urban” usually raises rat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riving recor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ccident with death, bodily injury, or property dam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umber and kind of moving viol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Vehicle characteristic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mage, repair, and theft record of type and model of ca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alue and age of ca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6605280" y="6323400"/>
            <a:ext cx="2066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special needs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3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4038480" y="1523880"/>
            <a:ext cx="4572000" cy="23846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do you budget for a car? scenario 1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uel wants to buy a car. He wants to know exactly how much he can afford to spend each month to own, operate, and maintain a car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uel’s net monthly income is $1,280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is fixed expenses ar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350 for r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is flexible monthly expenses ar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75 for saving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25 for util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185 for foo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35 for transportation (bus far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150 for tuition and book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40 for entertain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20 for personal ite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29 for household ite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Manuel gets a car, he expects to spend about $40 a month on gas and oil, and about $20 on parking and toll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uel needs to have car insurance. He has shopped around and expects that a car insurance premium will cost about $225 a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 How much can Manuel afford for a monthly car payme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 If he took a 60-month loan on a $6,000 car at 10%, how far would he be over budge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6618600" y="6323400"/>
            <a:ext cx="206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special needs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4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do you budget for a car? scenario 1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uel wants to buy a car. He wants to know exactly how much he can afford to spend each month to own, operate, and maintain a car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uel’s net monthly income is $1,280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is fixed expenses ar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350 for r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is flexible monthly expenses ar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75 for saving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25 for util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185 for foo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35 for transportation (bus far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150 for tuition and book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40 for entertain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20 for personal ite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29 for household ite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Manuel gets a car, he expects to spend about $40 a month on gas and oil, and about $20 on parking and toll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uel needs to have car insurance. He has shopped around and expects that a car insurance premium will cost about $225 a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 How much can Manuel afford for a monthly car payme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$86.0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 If he took a 60-month loan on a $6,000 car at 10%, how far would he be over budge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$41.4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6235560" y="6323400"/>
            <a:ext cx="2416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special needs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4a, cont.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8" descr=""/>
          <p:cNvPicPr/>
          <p:nvPr/>
        </p:nvPicPr>
        <p:blipFill>
          <a:blip r:embed="rId1"/>
          <a:stretch/>
        </p:blipFill>
        <p:spPr>
          <a:xfrm>
            <a:off x="4038480" y="1523880"/>
            <a:ext cx="4572000" cy="23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6080040" y="1828800"/>
            <a:ext cx="2378160" cy="35812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do you budget for a car? scenario 2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Rose is thinking about buying a car. She has $1,000 saved for a down payment.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She wants to know how much she can afford to spend each month on a car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Rose brings home $926 each month from her first job. She brings home $974 from her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second job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Her fixed expenses include: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$250 for re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$34 for a credit payment on furnitur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Her flexible monthly expenses include: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$100 for saving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$20 for telephon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$175 for food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$45 for transportation (bus fare)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$70 for tuition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$20 for school supplie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$40 for clothing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$40 for entertainme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$20 for household supplie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$29 for personal item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If Rose gets a car, she expects to spend about $60 a month on gas and oil,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and about $30 on parking and tolls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If Rose gets a car, she will need car insurance. She expects her car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insurance premium to be about $175 a month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1. How much can Rose afford for a monthly car payment?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2. If she took a 60-month loan on a $6,000 car at 10%, how far would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    she be under budget?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6617160" y="6323400"/>
            <a:ext cx="207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special needs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4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do you budget for a car? scenario 2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6224400" y="6323400"/>
            <a:ext cx="2419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special needs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4b, cont.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12" descr=""/>
          <p:cNvPicPr/>
          <p:nvPr/>
        </p:nvPicPr>
        <p:blipFill>
          <a:blip r:embed="rId1"/>
          <a:stretch/>
        </p:blipFill>
        <p:spPr>
          <a:xfrm>
            <a:off x="6080040" y="1828800"/>
            <a:ext cx="2378160" cy="358128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Rose is thinking about buying a car. She has $1,000 saved for a down payment.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She wants to know how much she can afford to spend each month on a car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Rose brings home $926 each month from her first job. She brings home $974 from her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second job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Her fixed expenses include: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$250 for re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$34 for a credit payment on furnitur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Her flexible monthly expenses include: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$100 for saving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$20 for telephon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$175 for food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$45 for transportation (bus fare)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$70 for tuition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$20 for school supplie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$40 for clothing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$40 for entertainme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$20 for household supplie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$29 for personal item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If Rose gets a car, she expects to spend about $60 a month on gas and oil,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and about $30 on parking and tolls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If Rose gets a car, she will need car insurance. She expects her car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insurance premium to be about $175 a month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1. How much can Rose afford for a monthly car payment?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$156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2. If she took a 60-month loan on a $6,000 car at 10%, how far would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    she be under budget?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$28.87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costs of owning and operating a ca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wnership (fixed) cost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urchase pri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les ta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gistration fee, title, and licen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nancing cos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sur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perating (flexible) cost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asoli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il and other flui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ir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intenance and repai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arking and toll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6675120" y="6323400"/>
            <a:ext cx="199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special needs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1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Picture 12" descr=""/>
          <p:cNvPicPr/>
          <p:nvPr/>
        </p:nvPicPr>
        <p:blipFill>
          <a:blip r:embed="rId1"/>
          <a:stretch/>
        </p:blipFill>
        <p:spPr>
          <a:xfrm>
            <a:off x="4038480" y="4419720"/>
            <a:ext cx="4476960" cy="14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decisions, decisions…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Quality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hat level of quality do I want?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hat level of quality do I need?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How much do I want to spend?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ar Mod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hould I choose a car with a well-known name even if it costs more?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Research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hat do consumer magazines say about the kind of car I want?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Recommend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o I know anyone who owns the kind of car I want?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imin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hould I wait until there’s a sale on the kind of car I want?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New or Used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hould I buy a new or a used car?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here to Buy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If I buy a used car, should I buy it from a dealer or a private party?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6602760" y="6323400"/>
            <a:ext cx="206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special needs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2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new ca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fore you shop, ask yourself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ich car model and options do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is the invoice price? What is the true cost to the deale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much am I willing to pay the dealer above the invoice price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is the value of my present car that I will be trading in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fore you buy, be sure you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ake the car for a test driv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ake your offer to as many dealers as po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mpare final sales prices and buying servic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mpare financing costs from various sourc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ry to sell your old car yourself (dealers usually give better deals without a trade-in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e whether you need an optional service contrac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6607800" y="6323400"/>
            <a:ext cx="207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special needs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2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used ca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fore you shop, ask yourself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much can I afford to spend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ich car models and options interest me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is the cost of car maintenance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ere is the nearest shop that services the kind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re parts readily available for the kind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price can I expect to pay? (Check recent prices in used-car “blue books,” on th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Internet, in newspaper ads, consumer magazines, etc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kind of financing is available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are the costs of a loan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o I know how to read a “Buyer’s Guide” sticke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6620040" y="6323400"/>
            <a:ext cx="205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special needs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2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0" descr=""/>
          <p:cNvPicPr/>
          <p:nvPr/>
        </p:nvPicPr>
        <p:blipFill>
          <a:blip r:embed="rId1"/>
          <a:stretch/>
        </p:blipFill>
        <p:spPr>
          <a:xfrm>
            <a:off x="4114800" y="2666880"/>
            <a:ext cx="4705200" cy="33912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used ca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fore you buy, be sure you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know the reputation of the deal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know what type of warranty comes with the ca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know what type of service contract comes with the ca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k about the maintenance histor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ake the car for a test driv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ave the car inspected by an independ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rvice maintenance pers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6237000" y="6323400"/>
            <a:ext cx="2407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special needs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2c, cont.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ources of used car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New-car dealer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vide quality used vehicl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ve a service department availabl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k higher prices than other sourc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Used car dealer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pecialize in previously owned vehicl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only limited warranty (if any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sell vehicles in poor condition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ivate partie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offer a good buy if the vehicle was well maintaine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little consumer protection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ther source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ll vehicles that have been driven many mil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amples: auctions or sales by government agencies, auto rental companies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the interne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612480" y="6323400"/>
            <a:ext cx="207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special needs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2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1"/>
          <a:stretch/>
        </p:blipFill>
        <p:spPr>
          <a:xfrm>
            <a:off x="5943600" y="914400"/>
            <a:ext cx="252396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many prices are there?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ist Price/Retail Price/Sticker Price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price the dealership is asking for a new ca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voice Price/Dealer Invoice Price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price the dealer has paid the manufacturer for the ca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se Price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price of the car before any options are adde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ook Value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value of a used car listed through resources like Kelley Blue Book at kbb.com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sking Price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amount a seller wants for his/her used car. You may be able to buy the car for a slightly lower price than thi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6605280" y="6323400"/>
            <a:ext cx="2066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special needs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2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car loa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se factors may vary between loans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nual Percentage Rate (APR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ength of the loa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onthly paym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tal finance char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nd so does the amount you’ll repay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orrowing $8,000 at different rate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6602760" y="6323400"/>
            <a:ext cx="206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special needs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3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3424320"/>
          <a:ext cx="8182080" cy="2085840"/>
        </p:xfrm>
        <a:graphic>
          <a:graphicData uri="http://schemas.openxmlformats.org/drawingml/2006/table">
            <a:tbl>
              <a:tblPr/>
              <a:tblGrid>
                <a:gridCol w="893880"/>
                <a:gridCol w="218880"/>
                <a:gridCol w="1602720"/>
                <a:gridCol w="218880"/>
                <a:gridCol w="1602720"/>
                <a:gridCol w="218880"/>
                <a:gridCol w="1605960"/>
                <a:gridCol w="218880"/>
                <a:gridCol w="1601280"/>
              </a:tblGrid>
              <a:tr h="55332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R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ngth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 loa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monthly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yment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financ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arg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 be repaid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56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.00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58.1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69.9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293.0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198.8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293.0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198.8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.25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66.6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78.9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600.1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738.2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600.1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738.2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80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.00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69.5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82.0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703.8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921.2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703.8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921.2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1-20T00:44:17Z</dcterms:modified>
  <cp:revision>29</cp:revision>
  <dc:subject/>
  <dc:title>lesson three</dc:title>
</cp:coreProperties>
</file>